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7C15-9192-4CCE-AA75-7B2448BD4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0E1E-23C9-42C1-A5D0-ECBA9DC17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085-E491-4B27-A22B-11E25F51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F8C-762C-447D-97DD-6FD6B9E5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F08-5CD9-4D83-A2FA-921EB088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E78C-30D5-4622-A781-B537CE38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0084-776F-4990-9B50-34AA9757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5D2C-ABD6-4E0B-9AD4-F8388945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A3A3-B056-4230-8F08-0908A71A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A393-D5EB-4C52-81D8-F48E1D43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B7F6-4A6C-4118-8EAE-5B9DE3C3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5206-DF89-4189-8BF3-1DA9B23B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204B-38A1-4E58-9558-EFAED49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FF9-5AFE-4859-97B7-81ECCDC2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41DF-C78F-46B8-81B9-238F40D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BF3D-736F-4517-B6F2-75A377C0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651-5BD4-432F-B058-A17BEA83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22EF-3885-4A21-BEB1-D72A43DE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D838-90FB-4373-8DC2-A7EAB0BA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6F77-A43A-4052-B9E8-5ECA9794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27B4A-D217-4C0B-BB71-BD6038E7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B9F7-FF5E-4FA6-A39E-8DF35CE8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B833E-77AD-4A53-9C2B-27D234B7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D97D-3E5D-48B4-8832-24146471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C54-5CDB-47D8-96B9-2BA6E6B9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85AE-8F72-4BCF-B657-E6C7698C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E3FD-230C-4546-A9A1-474E96C0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536D-CA44-43A5-9757-4C686B0E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52395-B57E-4701-836F-8E229284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E2A2-4F44-4F25-9137-AACC65A3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C960-9AC3-4F44-A1FA-CAFBCDEF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3740-021E-493E-9E79-8FD1C4BD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2E346-DB31-44B6-AA97-BCC6F191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9292-64E1-4B6C-9488-81DC090F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ADB09-477E-475A-A80D-21F7C2E3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BAC-13FE-4327-B49D-FEBCD592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1298-C5AD-4CD7-B691-7D5DD4DA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F7C6D-EF2C-41FA-93EB-B68752C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8C862-0781-4913-9889-D9125983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95F2-82D8-479A-94FB-BE915B55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76519-2EE6-4133-8B3E-DC247680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D768-5C94-445C-96C8-84087586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84D8E-5501-4AB0-80E7-631149DB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C964-3B43-4381-9288-9D1382AC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9DB77-17BF-4C7E-8914-D1C86EA9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58988-AA84-42EE-BE65-3A9E60A9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BD0-BD22-4602-A9F4-C1464AFC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F6DE-B41D-4CA6-8BC0-ADFC6B1E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8EAD2-37C2-4F15-BD1A-4C993A65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FDDFA-C96A-4AAA-BF15-DDEA33A9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C9064-CF43-4022-AB96-51D163EB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68855-4597-435F-94C7-88E4D69F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17DC5-9823-419C-9E9A-E99BEC17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F23B-B263-4416-A491-9A7C290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82FB2-7E6A-49F9-98FC-D01BBC4C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46994-2CB2-4AA4-B80E-891AB1A2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DA1E-D4CB-43DD-9084-FB61F9D4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9E2-2CF1-430D-99EA-FFEA52E9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2303D-7069-479E-A2C1-0BF71907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4D0-5252-4E9D-9CF5-8F50FD56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8EF-991F-4119-A540-59A4891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4DF-5A74-471C-AC10-2AD1CDA6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B06C-B3F9-4F51-877B-F8A02C2A69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1514-2B32-4F23-B108-896D8802836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0697-6116-412D-8DBD-D8E99D2F678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AB89-D0B1-4400-B8C7-FE06DE8B72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Rectangle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3EC3-0D1A-4B0F-80DE-8349B09AB03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. 37 Warm-U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conclusions should we draw from van Helmont’s experi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re would you expect a deficiency of a relative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immob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element to be seen first in a plant? (pg. 756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are the possible consequences of selling off water rights to cities and development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le of soil bacteria in the nitrogen nutrition of pla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295" name="Picture 22" descr="37_10aBacterialNitrogen_2-L.jpg"/>
          <p:cNvPicPr/>
          <p:nvPr/>
        </p:nvPicPr>
        <p:blipFill>
          <a:blip r:embed="rId1"/>
          <a:stretch/>
        </p:blipFill>
        <p:spPr>
          <a:xfrm>
            <a:off x="304920" y="1981080"/>
            <a:ext cx="85471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297" name="Content Placeholder 3" descr="37_13_Mycorrhizae-L.jpg"/>
          <p:cNvPicPr/>
          <p:nvPr/>
        </p:nvPicPr>
        <p:blipFill>
          <a:blip r:embed="rId1"/>
          <a:stretch/>
        </p:blipFill>
        <p:spPr>
          <a:xfrm>
            <a:off x="1295280" y="88920"/>
            <a:ext cx="6747120" cy="65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1720" y="22860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72314"/>
                </a:solidFill>
                <a:uFillTx/>
                <a:latin typeface="Arial"/>
              </a:rPr>
              <a:t>Unusual nutritional adaptations</a:t>
            </a:r>
            <a:r>
              <a:rPr b="0" lang="en-US" sz="3200" spc="-1" strike="noStrike">
                <a:solidFill>
                  <a:srgbClr val="572314"/>
                </a:solidFill>
                <a:latin typeface="Arial"/>
              </a:rPr>
              <a:t>: epiphytes, parasitic plants, canivorous plan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1219320" y="5410080"/>
            <a:ext cx="7619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piphy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row on another plant, absorb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from rain through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37_15aEpiphytes-L.jpg"/>
          <p:cNvPicPr/>
          <p:nvPr/>
        </p:nvPicPr>
        <p:blipFill>
          <a:blip r:embed="rId1"/>
          <a:stretch/>
        </p:blipFill>
        <p:spPr>
          <a:xfrm>
            <a:off x="2971800" y="1523880"/>
            <a:ext cx="541332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6"/>
          <p:cNvSpPr/>
          <p:nvPr/>
        </p:nvSpPr>
        <p:spPr>
          <a:xfrm>
            <a:off x="1219320" y="52578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arasitic P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t photosynthetic; absorb sugar and minerals from living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37_15b_ParasiticPlants-L.jpg"/>
          <p:cNvPicPr/>
          <p:nvPr/>
        </p:nvPicPr>
        <p:blipFill>
          <a:blip r:embed="rId1"/>
          <a:stretch/>
        </p:blipFill>
        <p:spPr>
          <a:xfrm>
            <a:off x="304920" y="596880"/>
            <a:ext cx="8547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7"/>
          <p:cNvSpPr/>
          <p:nvPr/>
        </p:nvSpPr>
        <p:spPr>
          <a:xfrm>
            <a:off x="1143000" y="54100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rnivorous P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hotosynthetic, but obtain some nitrogen and minerals by digesting small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37_15c_CarnivorousPlants-L.jpg"/>
          <p:cNvPicPr/>
          <p:nvPr/>
        </p:nvPicPr>
        <p:blipFill>
          <a:blip r:embed="rId1"/>
          <a:stretch/>
        </p:blipFill>
        <p:spPr>
          <a:xfrm>
            <a:off x="1447920" y="0"/>
            <a:ext cx="675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pter 37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Plant Nutri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8" name="Picture 5" descr="37_01PitcherPlants-L.jpg"/>
          <p:cNvPicPr/>
          <p:nvPr/>
        </p:nvPicPr>
        <p:blipFill>
          <a:blip r:embed="rId1"/>
          <a:stretch/>
        </p:blipFill>
        <p:spPr>
          <a:xfrm>
            <a:off x="1981080" y="2590920"/>
            <a:ext cx="5380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you need to know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tualistic relationships between plant roots and the bacteria and fungi that grow in the rhizosphere help plants acquire important nutrien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nmutualistic nutritional adaptations enable plant survival in adverse habita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198800" y="55440"/>
            <a:ext cx="738792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Nutritional Requireme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218960" y="1294920"/>
            <a:ext cx="7715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Essential elem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required for plant to complete life cycle and produce another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Macronutrient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large amounts): CHNOPS + K, Ca, M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Nitrogen = most importan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Micronutrient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small amounts): Fe, Mn, Zn, Cu, et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37_T01EssentialElements-L.jpg"/>
          <p:cNvPicPr/>
          <p:nvPr/>
        </p:nvPicPr>
        <p:blipFill>
          <a:blip r:embed="rId1"/>
          <a:stretch/>
        </p:blipFill>
        <p:spPr>
          <a:xfrm>
            <a:off x="298440" y="277920"/>
            <a:ext cx="85471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6" descr="37_08MineralDeficiencies-L.jpg"/>
          <p:cNvPicPr/>
          <p:nvPr/>
        </p:nvPicPr>
        <p:blipFill>
          <a:blip r:embed="rId1"/>
          <a:stretch/>
        </p:blipFill>
        <p:spPr>
          <a:xfrm>
            <a:off x="838080" y="457200"/>
            <a:ext cx="755028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Soil Qual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extu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– topsoil w/ humus (decayed organic material) prevents packing of cl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orous (reta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) yet aeration of roo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Chemical compos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ation exchan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roots add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soil to replace cations (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absorbed by pla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0" descr="_x0019_37_06SoilToRootHair_U.jpg                                      0002A27D&#10;CS1-Vol.07                     BD7D9C21:"/>
          <p:cNvPicPr/>
          <p:nvPr/>
        </p:nvPicPr>
        <p:blipFill>
          <a:blip r:embed="rId1"/>
          <a:stretch/>
        </p:blipFill>
        <p:spPr>
          <a:xfrm>
            <a:off x="303120" y="1873080"/>
            <a:ext cx="8535960" cy="41468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2836800" y="1905120"/>
            <a:ext cx="2033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il particle surround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m of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589200" y="2514600"/>
            <a:ext cx="7542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4024440" y="2819520"/>
            <a:ext cx="69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 flipV="1">
            <a:off x="3006720" y="242892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 flipV="1">
            <a:off x="3079800" y="2629080"/>
            <a:ext cx="460440" cy="47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454560" y="2949480"/>
            <a:ext cx="5014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6361200" y="4435560"/>
            <a:ext cx="7538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83040" y="4927680"/>
            <a:ext cx="7542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3057480" y="4527720"/>
            <a:ext cx="89532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5468760" y="5641920"/>
            <a:ext cx="171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ion exchange in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684360" y="5410080"/>
            <a:ext cx="17161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i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6537240" y="2389320"/>
            <a:ext cx="92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il 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vailability of soil water and mineral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Mutualistic Relationship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Rhizobium bacteria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ly nitrogen at roots (fix atmospheric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usable 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lant supplies sugar &amp; amino ac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Mycorrhiza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plant + fung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3" name="Picture 3" descr="37_11_RootNodules-L.jpg"/>
          <p:cNvPicPr/>
          <p:nvPr/>
        </p:nvPicPr>
        <p:blipFill>
          <a:blip r:embed="rId1"/>
          <a:stretch/>
        </p:blipFill>
        <p:spPr>
          <a:xfrm>
            <a:off x="2362320" y="3581280"/>
            <a:ext cx="52578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1:46:10Z</dcterms:created>
  <dc:creator>Chris Nancy Chou</dc:creator>
  <dc:description/>
  <dc:language>en-US</dc:language>
  <cp:lastModifiedBy>Chris Nancy Chou</cp:lastModifiedBy>
  <dcterms:modified xsi:type="dcterms:W3CDTF">2013-04-11T07:37:26Z</dcterms:modified>
  <cp:revision>35</cp:revision>
  <dc:subject/>
  <dc:title>Warm-Up</dc:title>
</cp:coreProperties>
</file>